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1E3C-EB1F-412A-9F94-5326891E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B2C3-5343-41C5-8905-537560C9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2DE-38AD-4029-A543-24107749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7BF-3C62-4F07-BD1B-F58A254FD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4570-EB0F-4454-AAAB-DAD79A12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533B-988D-4B04-B043-948148CF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80CE-4AA2-4C39-9FAB-EAC92DDF7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A99-1F6C-496B-A70C-41F9F79D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C58-C603-44CC-9889-14F54DA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FFD-5706-4C14-8A12-E2B77A37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123-52E7-4DB5-8F91-270A4570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8F3-FCEF-49EE-B48B-CB69C317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E26-B395-484D-9466-9D483566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5E4-3CB1-4526-AD3F-F79D1F8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64E-7DBC-4F2C-B8A9-60F4140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695-80A2-40BB-B75A-118D3CF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F3E-EF85-411F-8957-2CE1FCF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50A-1427-4043-8920-0F06C77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7F1-BBBC-4769-B050-69DAE2A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D92-7D14-4685-A457-2F286E48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is%20is%20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5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6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6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7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8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8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8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49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59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0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0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1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1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2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2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3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3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image" Target="../media/image5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determine the probability that an offspring will inherit a particular trait from it’s par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factors that determine an individuals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rved trait during Mendel’s research, represented by a capital l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minant tra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it that disappeared during Mendel’s research, represented by a lower-case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essive tra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abel of the original pair of plants used by Mende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(Parental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abel given to the first generation of offspring by Mend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1( First fili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ndividuals self-pollinate and create offspring identical to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e-bree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ikelihood that a particular event will hap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ffspring of crosses between parents with different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bri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assing on of characteristics from parents to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red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istory of 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unnett Squ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ndel’s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otpour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characteristics that vary from one organism to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orms of genes (Ex. Tall or short pla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e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ross that involves only one tr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nohybrid cr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ss that involves two tr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hybrid cro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ype of organism that Gregor Mendel conducted his research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mozygous domin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14400" y="2666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ozygous recessi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b is conside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terozyg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alleles contribute to the offspring’s ph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-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w that states that some alleles are dominant and others are recess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w of 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lleles are not completely dominant over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Pea Pla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w that states that genes for different traits are inherited independently from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w of Independent Assort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w stating that allele pairs separate during gamete formation and randomly unite at fertiliz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Segreg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y an organisms looks-- it’s physical appear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etic make-up of an individ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le part of the f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son who first predicted how traits are transferred from on generation to the nex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ries genetic material-- humans have 23 pairs of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its that are controlled by two or more ge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ygen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otypic ratio of a parental cross ( BB x b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914400" y="24382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4:0?  (4 B_:0 b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 What is 0:4:0? (0 BB:4Bb:0b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Gregor Mend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anch of Biology that studies hered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Genet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6-17T17:12:55Z</dcterms:modified>
  <cp:revision>55</cp:revision>
  <dc:subject/>
  <dc:title>No Slide Title</dc:title>
</cp:coreProperties>
</file>